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9CCC-9AB7-4A7F-858B-A946A968A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 http://biology.kenyon.edu/courses/biol114/KH_lecture_images/How_DNA_works/how_DNA-wor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textbookofbacteriology.net/phage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9/apr/28-next-miracle-antibiotic-could-spawn-next-super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tanford.edu/group/ccr/blog/2009/04/a_closer_look_1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urpleopurple.com/inventions-and-inventors/structure-of-DN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sites/daviddisalvo/2011/11/22/whats-your-dna-wor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giangleblog.wordpress.com/2011/05/02/edit-5-dna-structure-group-b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logy.lsu.edu/introbio/summer/Summer2004/1201/RF/Chapter%205%20review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dedunn.edublogs.org/2011/06/08/structure-of-dna-and-rna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phschool.com/science/biology_place/biocoach/transcription/chain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sciottichr.edu.glogster.com/ch-11-glo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s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ni-tuebingen.de/ziegler/history/friedrich_miescher/friedrich_miesch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thefullwiki.org/Griffiths_experiment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4A8-B175-420D-A3FE-2E94FC4F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A500-7F75-45D7-91CA-3EE82760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675-46BF-4654-B91A-71547333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C11A-A6B1-4009-98F3-78B8A76F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4421-9B83-477D-A31D-3CDDA956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83C-BD0C-40A9-A6F9-56E9A69D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E13-86AC-4F06-B038-7E3A7889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2AE-E09D-479E-B4FC-6165CE26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A36-E6E4-449F-8DC3-80043D34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F43-1583-4574-B12A-0F8DFE87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E5D7-5240-449A-B1CB-B4B72C4B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922-051F-4EB4-BD11-1979A26D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2D3D-DF41-41D8-BAD8-4C312E9EA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437316/student_view0/chapter14/animations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nalc.org/view/15014-Franklin-s-X-ray-diffraction-explanation-of-X-ray-pattern-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9/concept/index.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5/concept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inauer.com/cooper5e/animation0402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lecular Basis of Inherit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18000" y="28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y, McLeod, McC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or D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bacteriophage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437316/student_view0/chapter14/animations.html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48320" y="2784600"/>
            <a:ext cx="38098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07960" y="609480"/>
            <a:ext cx="632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08160" y="609480"/>
            <a:ext cx="4925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ucture - A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ebus Levene (1920’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d the 3 component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se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at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win Chargaff (19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DNA from different organisms and measured levels of each of the 4 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adenine = amt. of thy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cytosine = amt. of gu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salind Frank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X-ray diffraction images of DNA that suggested its double helix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lc.org/view/15014-Franklin-s-X-ray-diffraction-explanation-of-X-ray-pattern-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48320" y="2120760"/>
            <a:ext cx="38098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Watson &amp; Francis Crick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a model of DNA with a double helix of 2 anti-parallel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 the Nobel Prize in 1962 (with Maurice Wilkins) for deducing the structur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9/concept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97000" y="609480"/>
            <a:ext cx="495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1.5 p.45-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er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ucleot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arbon sugar (ribose or deoxy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ous bas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group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46240" y="1981080"/>
            <a:ext cx="505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73440" y="1981080"/>
            <a:ext cx="359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 Direct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25680" y="1981080"/>
            <a:ext cx="429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gor Men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22480" y="1981080"/>
            <a:ext cx="329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 &amp;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DNA vs. prokaryotic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Function - A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Mies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192480" y="198108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drich Miescher (186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used bandages from hospitals and isolated a substance he called “nucle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5/concep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Griffith (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16080" y="1981080"/>
            <a:ext cx="491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what occurred in bacterial cells (keeping in mind that Griffith wouldn’t have understood the mechanism in this much detail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inauer.com/cooper5e/animation040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cp:keywords/>
  <dc:language>en-US</dc:language>
  <cp:lastModifiedBy>rubina khan</cp:lastModifiedBy>
  <dcterms:modified xsi:type="dcterms:W3CDTF">2013-04-17T12:37:01Z</dcterms:modified>
  <cp:revision>104</cp:revision>
  <dc:subject/>
  <dc:title>Molecular Genetics</dc:title>
</cp:coreProperties>
</file>